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AE8D-5E5B-4EEB-8E6D-0001C183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F86B-1933-4503-A3A9-524C2FEB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7F69-8D7D-4B56-B96C-ACE10792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9CA3-3389-4A0C-BC28-6249E393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21F-CDC7-42EA-87FB-AE723496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D101-1265-4B90-8531-7C28FAF5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2E5F-636A-4075-8569-07F87382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16B2-D187-412B-B8A1-894C7B9E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AB9C-96B4-4289-8C66-B30BE5E3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3D0-1105-41CC-A152-F64A3BB9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40C-1500-4DCB-A8F2-4EF5EE59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4B77-9003-4F6D-BEAB-70A9743F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7D92-1BE8-4E53-A7A6-871DB67BA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9600"/>
            <a:ext cx="82296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controls the same as laws for a busin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 fraud is the intentional act of deceiving an employer for personal 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bank reconciliation, the adjusted balances in the bank and company sections do not have to be eq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etty cash fund does not need control procedures because it deals only with small expenditu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2093760"/>
          <a:ext cx="4406760" cy="470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93760"/>
                    <a:ext cx="4406760" cy="47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7982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not an objective of internal contr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1148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assets are safeguarded and used for business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business information is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employees comply with laws and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accountants do their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not a factor that influences a company’s  control environm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841400"/>
          <a:ext cx="448308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841400"/>
                    <a:ext cx="448308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11480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’s philosophy and operating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ny’s organization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the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ny’s personne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ent personnel, rotating duties, and mandatory vacations are examples of which element of internal contr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96920"/>
            <a:ext cx="411480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mmon internal control of cash receipt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tty cash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redit car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ing the duties of the cashiers and the accounting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nk reconc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procedures for authorizing and recording liabilities and cash payments is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ouche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funds transfer (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nk reconcil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 entries are required by a business when preparing a bank reconciliation for all of the following ex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of a notes receivable and interest by the bank for the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NSF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 service 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ts in tran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ank would issue a credit memorandum f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79640"/>
            <a:ext cx="4114800" cy="419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nk servic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printing 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of a note receivable and interest for a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F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ll companies have the same controls as eBay Inc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eparing a bank reconciliation, debits to cash not on the bank statement, such as deposits in transit,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ucted from the balance per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ucted from the balance per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o the balance per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o the balance per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9600"/>
            <a:ext cx="82296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enishing a petty cash fund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bit to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ts to expense accounts for the related summarized  petty cash rece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redit to Petty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journal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s may require depositors to maintain minimum cash balances in their bank accounts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nsating bal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s of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ty c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equival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762120"/>
            <a:ext cx="8305920" cy="118620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each of the following as relating to (a) the control environment, (b) risk assessment, or (c) contro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3679920"/>
          <a:ext cx="8305920" cy="249372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1 &amp; 2 are control environment; 3 is risk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1 &amp; 3 are control procedures; 2 is risk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1 is control procedures; 2 is control environment; 3 is risk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1 is control environment; 2 is control procedures; 3 is risk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32" name="Group 16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3" name="Rectangle 17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8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9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7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20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1"/>
          <p:cNvSpPr/>
          <p:nvPr/>
        </p:nvSpPr>
        <p:spPr>
          <a:xfrm>
            <a:off x="457200" y="2057400"/>
            <a:ext cx="8305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2"/>
          <p:cNvSpPr/>
          <p:nvPr/>
        </p:nvSpPr>
        <p:spPr>
          <a:xfrm>
            <a:off x="8763120" y="137160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457200" y="137160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457200" y="2155680"/>
            <a:ext cx="8305920" cy="11912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tory va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of outside consultants on future marke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16040"/>
            <a:ext cx="8229600" cy="8078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45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7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4343400" cy="38862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&amp; 2 are control environment; 3 is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&amp; 3 are control procedures; 2 is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is control procedures; 2 is control environment; 3 is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is control environment; 2 is control procedures; 3 is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57200" y="692280"/>
            <a:ext cx="8305920" cy="8204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data were gathered to use in reconciling the bank account of Photo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320040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4191120"/>
          <a:ext cx="8229600" cy="21333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,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3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4,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53" name="Group 17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4" name="Rectangle 18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0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7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21"/>
          <p:cNvSpPr/>
          <p:nvPr/>
        </p:nvSpPr>
        <p:spPr>
          <a:xfrm>
            <a:off x="457200" y="1676520"/>
            <a:ext cx="8305920" cy="23871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per ban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4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per company reco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,8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service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 in trans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F che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standing chec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adjusted balance on the bank reconcili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2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7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114800" cy="28191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18,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13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16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$14,7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838080"/>
            <a:ext cx="8305920" cy="311364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ransactions affected the petty cash fu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Issued check to establish a petty cash fund of $5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 The amount of cash in the petty cash fund is $120. Issued a check to replenish the fund, based on the following summary of petty cash receipts: office supplies, $300 and miscellaneous administrative expense, $75. Record any missing funds in the cash short and over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journal entries below correct to record the petty cash event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 OR FA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1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9" name="Rectangle 12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3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7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15"/>
          <p:cNvSpPr/>
          <p:nvPr/>
        </p:nvSpPr>
        <p:spPr>
          <a:xfrm>
            <a:off x="8763120" y="1371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457200" y="4167360"/>
            <a:ext cx="8305920" cy="6570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3"/>
              </a:spcBef>
              <a:tabLst>
                <a:tab algn="l" pos="0"/>
                <a:tab algn="l" pos="519120"/>
                <a:tab algn="l" pos="10825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ty 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519120"/>
                <a:tab algn="l" pos="10825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457200" y="4776840"/>
            <a:ext cx="8305920" cy="12344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3"/>
              </a:spcBef>
              <a:tabLst>
                <a:tab algn="l" pos="0"/>
                <a:tab algn="l" pos="519120"/>
                <a:tab algn="l" pos="9097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Suppl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3"/>
              </a:spcBef>
              <a:tabLst>
                <a:tab algn="l" pos="0"/>
                <a:tab algn="l" pos="519120"/>
                <a:tab algn="l" pos="9097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cellaneous Administrative Expen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3"/>
              </a:spcBef>
              <a:tabLst>
                <a:tab algn="l" pos="0"/>
                <a:tab algn="l" pos="519120"/>
                <a:tab algn="l" pos="9097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 Short and O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3"/>
              </a:spcBef>
              <a:tabLst>
                <a:tab algn="l" pos="0"/>
                <a:tab algn="l" pos="519120"/>
                <a:tab algn="l" pos="909720"/>
                <a:tab algn="r" pos="5369040"/>
                <a:tab algn="r" pos="6624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380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8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9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7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4114800" cy="167652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having controls helps with the success of a company such as eBay Inc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small and large companies use the same kinds of internal contro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it expensive to implement controls in a company as big as eBay Inc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rbanes-Oxley applies only to publicly held compan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publicly held companies need to have a system of internal control in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e Sarbanes-Oxley Act of 2002 is to restore public confidence and trust in the financial reporting of compan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828800"/>
          <a:ext cx="4413240" cy="49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828800"/>
                    <a:ext cx="441324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, plant, and equipment is the asset most likely to be diverted and used improperly by employ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6:26:30Z</dcterms:created>
  <dc:creator> </dc:creator>
  <dc:description/>
  <dc:language>en-US</dc:language>
  <cp:lastModifiedBy>Leslie</cp:lastModifiedBy>
  <dcterms:modified xsi:type="dcterms:W3CDTF">2008-12-30T03:04:22Z</dcterms:modified>
  <cp:revision>33</cp:revision>
  <dc:subject/>
  <dc:title>Are controls the same as laws for a business?</dc:title>
</cp:coreProperties>
</file>